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BF763-7B39-49F7-858C-59A90C639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81619-2DB1-4B38-A611-20EAFA16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BC21C-D006-478D-9829-8F8AF081E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B8013-8165-47E2-9499-CACE6D07E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EE8EA-2132-4B48-95F2-7A350A6D9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9240F-2534-4C00-966D-57A4C2A9F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928DA-D022-4324-A043-72570E9E2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1436C-383E-428A-BDF0-331D8B774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05A95-712B-4B9B-A56B-CD748AA67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BDAA6-E75B-4586-9CDA-F99DA09A8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F841-BF00-4C15-BAC4-46E14088E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5EB6C-B20E-4C92-9077-A8583B31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179C3-ACF3-4D59-97FD-7C3D04BFF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E84CC-5BFF-4B14-802B-001A3309F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23F02-388C-4788-A54D-E6476D963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747FD-15A6-41C8-9C8F-71A15E898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A02B1-DCB8-4E3A-8E7B-1D00DC61B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0C7F-5685-46A1-BC81-A1F602FAB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E8DFF-217F-4184-8654-460C743F2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4D3A2-2CD7-454D-B9E0-276826CF7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57AD0-D4C3-4201-844D-9AA77F01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AB37-9B6F-4418-A4C2-784B50E4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D53F8-1A3C-4741-AE88-E67BDD1BC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90A1-0A37-4C33-AD01-477C32166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37BC-421C-4330-B9E5-2E7D43E3C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2D9E-E896-469F-A87D-1FF1ADC291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Problem Based Learning</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troductory look at PBL</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as initial challenge and motivation </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structur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ls to human desire for resolution/stasis/harmon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up need for and context of learning which follows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are the benefits of PBL? </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io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 And Con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Order Thinking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How To Lear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ity </a:t>
            </a:r>
            <a:endParaRPr b="0" lang="en-US" sz="2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rameters for PBL </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 PBL unit, the ill-structured problem is presented first and serves as the organizing center and context for learning.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blem on which learning centers: </a:t>
            </a: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ill-structured in nature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met as a messy situation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changes with the addition of new information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not solved easily or formulaically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lways result in a right answer </a:t>
            </a:r>
            <a:endParaRPr b="0" lang="en-US" sz="16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BL classrooms: students assume the role of problem-solvers; teachers assume the role of tutors and coache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teaching and learning process, information is shared but knowledge is a personal construction of the learner. Thinking is fully articulated and held to strict bench mark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is an authentic companion to the problem and proces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BL unit is not necessarily interdisciplinary in nature but it is always integrative. </a:t>
            </a:r>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20">
                                            <p:txEl>
                                              <p:pRg st="1" end="1"/>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20">
                                            <p:txEl>
                                              <p:pRg st="2" end="2"/>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20">
                                            <p:txEl>
                                              <p:pRg st="3" end="3"/>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20">
                                            <p:txEl>
                                              <p:pRg st="4" end="4"/>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20">
                                            <p:txEl>
                                              <p:pRg st="5" end="5"/>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20">
                                            <p:txEl>
                                              <p:pRg st="8" end="8"/>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0">
                                            <p:txEl>
                                              <p:pRg st="9" end="9"/>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llenges for Teache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of ill-structured problem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content coverag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 of student learning</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ance from students and other shareholder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ources</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inois Math and Science Academy (IMSA). </a:t>
            </a:r>
            <a:endParaRPr b="0" lang="en-US" sz="32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2.imsa.edu</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ford University Center for Teaching, Learning, &amp; Scholarship.</a:t>
            </a:r>
            <a:endParaRPr b="0" lang="en-US" sz="32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amford.edu/ctls/problem_based_learning.html</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is PBL?</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roblem-based learning (PBL) is a curriculum development and instructional approach. </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PBL do?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 PBL simultaneously develops problem solving strategies, disciplinary knowledge bases, and ski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does PBL do i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y placing students in the active role of problem-solvers confronted with an ill-structured problem which mirrors real-world problem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0">
                                            <p:txEl>
                                              <p:pRg st="5" end="5"/>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0">
                                            <p:txEl>
                                              <p:pRg st="10" end="10"/>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0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30592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b7"/>
                </a:solidFill>
                <a:latin typeface="Arial Black"/>
              </a:rPr>
              <a:t>Problem-based learning has as its organizing center the ill-structured problem that ... </a:t>
            </a:r>
            <a:br>
              <a:rPr sz="4000"/>
            </a:br>
            <a:endParaRPr b="1" lang="en-US" sz="4000" spc="-1" strike="noStrike">
              <a:solidFill>
                <a:srgbClr val="ffffb7"/>
              </a:solidFill>
              <a:latin typeface="Arial Black"/>
            </a:endParaRPr>
          </a:p>
        </p:txBody>
      </p:sp>
      <p:sp>
        <p:nvSpPr>
          <p:cNvPr id="102" name="PlaceHolder 2"/>
          <p:cNvSpPr>
            <a:spLocks noGrp="1"/>
          </p:cNvSpPr>
          <p:nvPr>
            <p:ph/>
          </p:nvPr>
        </p:nvSpPr>
        <p:spPr>
          <a:xfrm>
            <a:off x="304560" y="2666520"/>
            <a:ext cx="8381880" cy="3459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messy and complex in natur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s inquiry, information-gathering, and reflectio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changing and tentativ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no simple, fixed, formulaic, right solu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 of ill-structured problems used in PBL </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a scientist at the state department of nuclear safety. Some people in a small community feel their health is at risk because a company keeps thorium piled above ground at one of their plants. What action, if any, should be taken?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228600" algn="r">
              <a:lnSpc>
                <a:spcPct val="90000"/>
              </a:lnSpc>
              <a:spcBef>
                <a:spcPts val="49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er Challenge 1992, IMSA </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 of ill-structured problems used in PBL</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a consultant to the Department of Fish and Wildlife. A first draft of a plan for the reintroduction of wolves to Yellowstone has received strong, negative testimony at hearings. What is your advice regarding the plan? </a:t>
            </a:r>
            <a:endParaRPr b="0" lang="en-US" sz="3200" spc="-1" strike="noStrike">
              <a:solidFill>
                <a:srgbClr val="ffffff"/>
              </a:solidFill>
              <a:latin typeface="Arial"/>
            </a:endParaRPr>
          </a:p>
          <a:p>
            <a:pPr lvl="3" marL="1600200" indent="-228600" algn="r">
              <a:spcBef>
                <a:spcPts val="49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Thompson, Ecology, IMSA </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 of ill-structured problems used in PBL</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 stockholder of a major oil refinery in Louisiana which has mined oil from wetlands in the southern part of the state. You have received pressure from publicity about the wetlands to make it property of the federal government so that it can be protected. What will you do? </a:t>
            </a:r>
            <a:endParaRPr b="0" lang="en-US" sz="2800" spc="-1" strike="noStrike">
              <a:solidFill>
                <a:srgbClr val="ffffff"/>
              </a:solidFill>
              <a:latin typeface="Arial"/>
            </a:endParaRPr>
          </a:p>
          <a:p>
            <a:pPr lvl="3" marL="1600200" indent="0" algn="r">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228600" algn="r">
              <a:spcBef>
                <a:spcPts val="45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ine Vitale, 4-5 multi-grade, Arlington Heights, IL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How does PBL compare with other instructional approaches?</a:t>
            </a:r>
            <a:endParaRPr b="1" lang="en-US" sz="40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ations:</a:t>
            </a:r>
            <a:endParaRPr b="0" lang="en-US" sz="2800" spc="-1" strike="noStrike">
              <a:solidFill>
                <a:srgbClr val="ffffff"/>
              </a:solidFill>
              <a:latin typeface="Arial"/>
            </a:endParaRPr>
          </a:p>
          <a:p>
            <a:pPr lvl="1" marL="743040" indent="-285840">
              <a:lnSpc>
                <a:spcPct val="80000"/>
              </a:lnSpc>
              <a:spcBef>
                <a:spcPts val="62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le of the problem </a:t>
            </a:r>
            <a:endParaRPr b="0" lang="en-US" sz="2500" spc="-1" strike="noStrike">
              <a:solidFill>
                <a:srgbClr val="ffffff"/>
              </a:solidFill>
              <a:latin typeface="Arial"/>
            </a:endParaRPr>
          </a:p>
          <a:p>
            <a:pPr lvl="1" marL="743040" indent="-285840">
              <a:lnSpc>
                <a:spcPct val="80000"/>
              </a:lnSpc>
              <a:spcBef>
                <a:spcPts val="62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le of the teacher </a:t>
            </a:r>
            <a:endParaRPr b="0" lang="en-US" sz="2500" spc="-1" strike="noStrike">
              <a:solidFill>
                <a:srgbClr val="ffffff"/>
              </a:solidFill>
              <a:latin typeface="Arial"/>
            </a:endParaRPr>
          </a:p>
          <a:p>
            <a:pPr lvl="1" marL="743040" indent="-285840">
              <a:lnSpc>
                <a:spcPct val="80000"/>
              </a:lnSpc>
              <a:spcBef>
                <a:spcPts val="62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le of the learner </a:t>
            </a:r>
            <a:endParaRPr b="0" lang="en-US" sz="2500" spc="-1" strike="noStrike">
              <a:solidFill>
                <a:srgbClr val="ffffff"/>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blem-based learning begins with the introduction of an ill-structured problem on which all learning center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achers assume the role of cognitive and metacognitive coach rather than knowledge-holder and disseminator</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s assume the role of active problem-solvers, decision-makers, and meaning-makers rather than passive listeners. </a:t>
            </a:r>
            <a:endParaRPr b="0" lang="en-US" sz="2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eacher as coach </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g about thinking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learning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ing/challenging students' thinking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ing students involv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adjusting levels of challeng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ing group dynamic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ing process mov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udent as active problem-solver </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ng meaning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15:17:23Z</dcterms:created>
  <dc:creator>elpalme</dc:creator>
  <dc:description/>
  <dc:language>en-US</dc:language>
  <cp:lastModifiedBy>Elisa Palmer</cp:lastModifiedBy>
  <dcterms:modified xsi:type="dcterms:W3CDTF">2011-03-02T02:36:50Z</dcterms:modified>
  <cp:revision>5</cp:revision>
  <dc:subject/>
  <dc:title>Problem Based Learning</dc:title>
</cp:coreProperties>
</file>